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FEB-D07D-403E-A579-97311740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A92-A5F2-42FD-8BC1-592291B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02C-2AE9-45DA-B3C7-0C1F99B6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4B4-50EE-4B6C-809B-BB021FE5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2D70-160E-4039-BBC9-6D0A9294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A0C-1D60-4BFD-8442-941718C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5225-A285-4C2D-91A7-4D28BB62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808F-8C73-4E85-963C-D79D4301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487E-C004-40C7-B7AF-836E680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81C2-DE1D-4758-9444-0CA5B6E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F5BD-8EE1-42C5-AA27-79F2848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F7C-9071-4D11-AE1F-0AAFCC1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CB8-F7D0-425E-8D3A-2153A0F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213-8743-469C-9FBE-E2D6BF3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E656-AD85-4C4C-A27B-9BF22604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B30B-7AD4-4983-91B6-3EE7284E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34A6-7079-41A7-978B-923B3280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627-9853-49C9-A622-440295F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C5C-4A2A-4548-8797-56285A0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4CF-087D-48AC-B6A1-FB09C55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F83-C546-4F17-87A3-1A199757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BEF-A152-4126-A7FC-ABF5BB6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081-631C-4E36-BB5C-FC0F6F5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97B-77A8-4F2B-AD6E-75383F9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71A-9C57-428A-AC54-CA952A83B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9798-713F-41A1-852A-7DE8EB28E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Monotype Corsiva"/>
              </a:rPr>
              <a:t>Folktale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y Group Story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miliar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Jack and the Beanstalk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Babe the Blue O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Three Billy Goats Gru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Paul Buny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lbertus"/>
              </a:rPr>
              <a:t>Pecos Bi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JackAndTheBeanstalk"/>
          <p:cNvPicPr/>
          <p:nvPr/>
        </p:nvPicPr>
        <p:blipFill>
          <a:blip r:embed="rId1"/>
          <a:stretch/>
        </p:blipFill>
        <p:spPr>
          <a:xfrm>
            <a:off x="5105520" y="1752480"/>
            <a:ext cx="35938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miliar Folktales</a:t>
            </a:r>
            <a:br>
              <a:rPr sz="4400"/>
            </a:br>
            <a:r>
              <a:rPr b="1" lang="en-US" sz="1600" spc="-1" strike="noStrike">
                <a:solidFill>
                  <a:srgbClr val="ffffb7"/>
                </a:solidFill>
                <a:latin typeface="Albertus"/>
              </a:rPr>
              <a:t>Examine the following folktales from different countries at 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lbertus"/>
              </a:rPr>
              <a:t>www.worldoftales.com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190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European Folkta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Tale of the Snow and the Stee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Nighting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African Folktales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Leopard 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Man who Never 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Asian Folk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Four Dragons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 (Chine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The Herb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“mega</a:t>
            </a: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” (Japane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876920" y="1905120"/>
            <a:ext cx="3809880" cy="2562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Native American Folkta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How the Turkey got His Be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Climbing the Moun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lbertus"/>
              </a:rPr>
              <a:t>South American Folk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How the Monkey Became a Trick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lbertus"/>
              </a:rPr>
              <a:t>Why the Lamb is M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http://www.racematters.org/assets/FavoriteAfricanFolktales.jpg"/>
          <p:cNvPicPr/>
          <p:nvPr/>
        </p:nvPicPr>
        <p:blipFill>
          <a:blip r:embed="rId1"/>
          <a:stretch/>
        </p:blipFill>
        <p:spPr>
          <a:xfrm>
            <a:off x="5867280" y="4343400"/>
            <a:ext cx="1981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olktale Websi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07120" cy="41911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World of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orldoftal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lktales, Fables, and Legends for K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ww.pitara.com/talespin/folktales.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lktales from aroun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http://www.unc.edu/~rwilkers/titl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Assig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07480" cy="5638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Review the four types of folktales, and the elements that make up eac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Explore the Folktale websites and find a folktale that you would like to “modernize” by updating the setting, characters, and langua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Log onto the Libs6960 Storybird page with the username </a:t>
            </a: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“6960” 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and the password </a:t>
            </a: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“storybird.” 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You will use Storybird to create your modern day version of the folktale you choo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The title of your story should include your last name and the folktale you are rewriting (ex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lbertus"/>
              </a:rPr>
              <a:t>John Smith_Little Red Riding Hood in the Hood</a:t>
            </a: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The title page of your Storybird should include the follow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First and Last N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Title of your Folktale (you may include an optional subtitle that describes your updated vers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Type of folktale (Fairy tale, Fable, Porquoi, or Trickst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ff47"/>
                </a:solidFill>
                <a:latin typeface="Albertus"/>
              </a:rPr>
              <a:t>Country of Ori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Your Storybird folktale should be enhanced with artwor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"/>
              </a:rPr>
              <a:t>Review the Rubric to make sure your folktale includes all of the necessary elem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Rubr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7480" cy="4572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295280"/>
          <a:ext cx="8153280" cy="4913280"/>
        </p:xfrm>
        <a:graphic>
          <a:graphicData uri="http://schemas.openxmlformats.org/drawingml/2006/table">
            <a:tbl>
              <a:tblPr/>
              <a:tblGrid>
                <a:gridCol w="3198600"/>
                <a:gridCol w="3407040"/>
                <a:gridCol w="309240"/>
                <a:gridCol w="309600"/>
                <a:gridCol w="309600"/>
                <a:gridCol w="309600"/>
                <a:gridCol w="309600"/>
              </a:tblGrid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udent Expec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2680">
                <a:tc row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. Write narratives to develop real or imagined experiences or events using effective technique, relevant descriptive details, and well-structured event sequence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Demonstrates an understanding of folktales (through the creation of a Storybird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Includes all of the required elements on the title page of the folkta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reates a complete story with a beginning, middle, and en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Shows originality in the modernization of characters and setting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2408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a. Engage and orient the reader by establishing a context and point of view and introducing a narrator and/or characters; organize an event sequence that unfolds naturally and logically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text and point of view are well established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The role of the narrator/ characters is clearly define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The plot is organized in such a way that events flow naturally and logicall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251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3d. Use precise words and phrases, relevant descriptive details, and sensory language to capture the action and convey experiences and event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Story includes descriptive words and phras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haracters are well-rounded, with dynamic voices and personaliti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Artwork is utilized to enhance the stor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Monotype Corsiva"/>
              </a:rPr>
              <a:t>The End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What are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s genre of literature grew form the oral tradition of story telling which have been there from for thousands of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ost of these stories deal with issues and  problems that all children can relate to no matter which part or culture of the world they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Objectives for this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LW examine the four different types of folktales, identify characteristics of each, and evaluate their importance in the cultures in which they were t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LW use Storybird  (www.storybird.com) to rewrite a folktale, incorporating modern day settings, characters, and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Characteristics of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assed down through oral traditions of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tories about people’s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truggle with fear and 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Helped them cope with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ommon and familiar settings, with no traditional time/place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Uses unusual  events or humor to resolv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veryday people and/or animals are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Usually have happy endings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Types of Folk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irytales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rickster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hy “Porquoi”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2105944-L"/>
          <p:cNvPicPr/>
          <p:nvPr/>
        </p:nvPicPr>
        <p:blipFill>
          <a:blip r:embed="rId1"/>
          <a:stretch/>
        </p:blipFill>
        <p:spPr>
          <a:xfrm>
            <a:off x="5105520" y="1676520"/>
            <a:ext cx="35906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Trickster 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ne character, usually the protagonist is clever and de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 protagonist causes problems for the other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ually goes unpun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Different cultures have specific trick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Why “Porquoi” St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xplains WHY something is as i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xplains HOW things came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iryt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clude  good and bad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agic and fant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Usually has a hero or hero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Often begins with “Once upon a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Predictable endings “happily ever af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nflicts are resolved through kindness, courage, or 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Monotype Corsiva"/>
              </a:rPr>
              <a:t>F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eaches a lesson or m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hort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ain characters are usually animals with human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e moral is never stated 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tress themes such as: the value of cooperation, looking at problems from different viewpoints, rewards if being satis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8:58:13Z</dcterms:created>
  <dc:creator>Diana</dc:creator>
  <dc:description/>
  <dc:language>en-US</dc:language>
  <cp:lastModifiedBy> </cp:lastModifiedBy>
  <dcterms:modified xsi:type="dcterms:W3CDTF">2011-11-15T15:47:13Z</dcterms:modified>
  <cp:revision>24</cp:revision>
  <dc:subject/>
  <dc:title>Folktales</dc:title>
</cp:coreProperties>
</file>